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3845-9647-4DC9-9BA0-FF00DE522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35CF-47A7-422D-9D87-DB6EA80E5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4A4E-8857-476A-ABD9-6F7C8B42A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23E3-5BA6-4AC4-A6AF-363C97EE5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6655-8182-4AEC-9712-E493E5AE7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8543-5820-4D7E-8C11-B8900BBED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1160-3029-416D-A963-73159697E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046C-91D9-46B2-93D6-948D91EDC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BCB4-A34B-441E-AB14-FA5B8BCED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6571-D6B4-4ACA-8302-B565266D1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42E4-E663-4BC1-BFBF-C7287BAF7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5147-59A2-43E6-9D05-C7E92EA32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978B-E630-480F-BD5C-82B1FE4A5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42B2-1BBA-4740-9618-6441E1B2E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3972-5362-46E6-BACE-47F3F9180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D98C-1459-46FC-961D-0B0816B9B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B347-91E5-45D5-82D1-9F9DB2DC7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1CE7-48E5-46C2-8A59-B0B1978C6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7AA6-8174-4E15-808A-EA21BEAE9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51BE-B4A3-4E73-96E5-8E2298387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E3AE-CE77-45EE-97F2-8E0DA8FE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EFF9-A975-4538-A3E1-415D9AC52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AE0A-9F21-4FB8-891D-FE8C420F3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E28A-854F-4A60-A857-A0B137F5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EB6B-E32C-4FB2-9F5D-EEBD51D5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305F-F521-4BA5-AFBA-B07FB79D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653D-00A9-43F7-94A3-F2CE38C3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031C-8484-4369-9A3A-BFFEC76D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08E3-A910-4DBF-9EDF-1B4292EA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9F10-0B6F-4C8F-9B8E-400C3425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22EC-6A17-4470-BEA6-56338C4C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6F2D-7264-458B-9B68-D4B6E2934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ка оборудования, используемого в микробиологической лаборат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D4DA-29CE-4A2A-989D-963CD4BEF73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DCD9-3797-4BAA-AEEF-7D7A5D30A5A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орудование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би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ируйте температуру 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оста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лодильни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озильных камера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яйте работ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ческих пип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кла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сов и измерительных приб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ите за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B74D-1F41-4A98-A7D7-EA75B2FABD5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1220760" y="144792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44792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7CB4-0FDE-4B69-9EFA-0D706F49A31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ерилиз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414480" y="1219320"/>
            <a:ext cx="201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тери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р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реаг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атериа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553080" y="4660920"/>
            <a:ext cx="220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Безопас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тходы, готовые к уда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533520" y="1219320"/>
            <a:ext cx="2438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риготовление ср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реаг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атери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Autoclave1"/>
          <p:cNvPicPr/>
          <p:nvPr/>
        </p:nvPicPr>
        <p:blipFill>
          <a:blip r:embed="rId1"/>
          <a:stretch/>
        </p:blipFill>
        <p:spPr>
          <a:xfrm>
            <a:off x="342900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27"/>
          <p:cNvSpPr/>
          <p:nvPr/>
        </p:nvSpPr>
        <p:spPr>
          <a:xfrm>
            <a:off x="3429000" y="1676520"/>
            <a:ext cx="2590920" cy="838080"/>
          </a:xfrm>
          <a:custGeom>
            <a:avLst/>
            <a:gdLst>
              <a:gd name="textAreaLeft" fmla="*/ 404640 w 2590920"/>
              <a:gd name="textAreaRight" fmla="*/ 2267280 w 259092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228600" y="49528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Контаминированные отх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7"/>
          <p:cNvSpPr/>
          <p:nvPr/>
        </p:nvSpPr>
        <p:spPr>
          <a:xfrm>
            <a:off x="3429000" y="5181480"/>
            <a:ext cx="2590920" cy="838440"/>
          </a:xfrm>
          <a:custGeom>
            <a:avLst/>
            <a:gdLst>
              <a:gd name="textAreaLeft" fmla="*/ 404640 w 2590920"/>
              <a:gd name="textAreaRight" fmla="*/ 2267280 w 25909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64DE-A36A-4EF5-9041-C3779406AAB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вухэтапный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Контроль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имические индик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ктериологические индик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Контроль стерильности проду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ст на р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4FF7-74BD-47A0-92C3-64E3626A614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дикаторы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2AA9-D121-4565-A90D-396C60E7F04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дикаторы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388620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Хим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пература соответствует требуемой для стерил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проверяют время и д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218960"/>
            <a:ext cx="4267080" cy="25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80"/>
                </a:solidFill>
                <a:latin typeface="Arial"/>
              </a:rPr>
              <a:t>Биолог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пература, время и давление соответствуют требуемым для стери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533520" y="4419720"/>
            <a:ext cx="8153280" cy="2047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Имейте в виду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и один из индикаторов не гарантирует стерилизацию, если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Автоклав перегруж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Объем сред слишком больш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490B-291A-4A1A-9098-823048083F1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урнал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5075-1B5E-4F0A-80E6-F769FE78C6C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ско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4060_research_large"/>
          <p:cNvPicPr/>
          <p:nvPr/>
        </p:nvPicPr>
        <p:blipFill>
          <a:blip r:embed="rId1"/>
          <a:stretch/>
        </p:blipFill>
        <p:spPr>
          <a:xfrm>
            <a:off x="30492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733920" y="1295280"/>
            <a:ext cx="5181480" cy="5029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одержите линзы в чист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мейте по крайней мере один иммерсионный объектив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х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спользуйте подпружиненные объ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е допускайте попадания масла на не иммерсионные объ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ледите за тем, чтобы образец не оказался выше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линзы объек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 Narrow"/>
              </a:rPr>
              <a:t>Поддерживайте равномерное освещение (освещение по Келер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Olga</cp:lastModifiedBy>
  <dcterms:modified xsi:type="dcterms:W3CDTF">2013-05-08T12:35:27Z</dcterms:modified>
  <cp:revision>40</cp:revision>
  <dc:subject/>
  <dc:title>Slide 1</dc:title>
</cp:coreProperties>
</file>